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CF611-2B78-432C-9433-13FB67718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20D35-F312-4CB8-BA26-75CF0EB37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E06D4-EE5A-4824-B331-0F9D9D154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D64E4-9C91-4262-956C-6F4DA9D95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0CA2D-9061-41FE-B15D-C9B6C7519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0B1F1-2949-4386-8D41-FEED91E35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34A07-A1CF-456C-9015-7B329B357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AD229-1FF6-4510-8BD9-12D49A8CC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1A877-3720-46A6-B813-EB5F20C67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FE455-CE65-4B32-B8F9-886BD9A56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42D04-DAC2-41A2-9C55-6014E4D50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546FC-06EA-40F2-8923-4FEAA5E9F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8019-C732-4741-B9C4-5F6A0B065D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1752480" y="5029200"/>
            <a:ext cx="5181840" cy="1295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siunea iunie - iulie</a:t>
            </a:r>
            <a:endParaRPr b="0" lang="en-US" sz="1800" spc="1" strike="noStrike">
              <a:ln w="9360">
                <a:solidFill>
                  <a:srgbClr val="000000"/>
                </a:solidFill>
                <a:miter/>
              </a:ln>
              <a:solidFill>
                <a:srgbClr val="000000"/>
              </a:solidFill>
              <a:latin typeface="Arial Black"/>
              <a:ea typeface="Arial Black"/>
            </a:endParaRPr>
          </a:p>
        </p:txBody>
      </p:sp>
    </p:spTree>
  </p:cSld>
  <p:transition spd="med" advTm="5000">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transition spd="med" advTm="5000">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transition spd="med" advTm="5000">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Elev</cp:lastModifiedBy>
  <dcterms:modified xsi:type="dcterms:W3CDTF">2010-06-20T11:42:27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